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2D62-99AB-4ECB-A6B6-81144337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0D2-CB64-483C-BAE9-B6E01173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A2-9EDC-467B-853E-0342E3FC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8960-ABD7-4DAE-B4E6-05608F34F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379-DC9E-4D0B-8CF3-D6BA9180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0C9-63FF-4E75-B48B-92E9EC06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7E3-60E4-4D43-8278-6B99FF05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BB3F-B046-4D8B-AD77-675562AA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81C-8DE2-40C5-AF37-5B3B1FE3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1B73-2EE6-4A11-A634-AC2674B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082-7D16-44A8-B91D-4DB8D16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CA29-BA0A-4046-A3D1-A4BC5E9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7F57-89EA-4057-8EE3-02329EBE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: С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амоспозн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едстављање програма и портфолија за ученике/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 и договарање о начину ра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интересо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ештина и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ут способ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свету вре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моспознаја – аутопортр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очима друг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кав/каква сам у ти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ј тип у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а за 10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 родитеље/старетеље и децу: Моја очек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,3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формисање о занимањима, каријери и путевима образ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ка савременог света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4. Прикупљање и начин обраде информација  о школама и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5. Повезивање области рада са заним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6. Путеви образовања и 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7. Припрема за интерв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8. Спровођење интервју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9. Припрема сусрета са експертима у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0. Експерти у нашој шк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оду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4,5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еални сусрети са светом рада и доношење одлуке о школовању и заним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1. Осверт на резултате информис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2. Посета средњој 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3. Посета предузећу/устан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4. Евалуација програма ПО за 7. разр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+ 15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часова реалних суср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447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рограм професионалне оријентације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- VII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азр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3:00:56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